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3.png" ContentType="image/png"/>
  <Override PartName="/ppt/media/image21.jpeg" ContentType="image/jpeg"/>
  <Override PartName="/ppt/media/image2.wmf" ContentType="image/x-wmf"/>
  <Override PartName="/ppt/media/image28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7.png" ContentType="image/png"/>
  <Override PartName="/ppt/media/image34.jpeg" ContentType="image/jpeg"/>
  <Override PartName="/ppt/media/image15.wmf" ContentType="image/x-wmf"/>
  <Override PartName="/ppt/media/image14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31.jpeg" ContentType="image/jpeg"/>
  <Override PartName="/ppt/media/image39.jpeg" ContentType="image/jpeg"/>
  <Override PartName="/ppt/media/image8.png" ContentType="image/png"/>
  <Override PartName="/ppt/media/image41.wmf" ContentType="image/x-wmf"/>
  <Override PartName="/ppt/media/image32.jpeg" ContentType="image/jpeg"/>
  <Override PartName="/ppt/media/image38.jpeg" ContentType="image/jpeg"/>
  <Override PartName="/ppt/media/image40.jpeg" ContentType="image/jpeg"/>
  <Override PartName="/ppt/media/image22.jpeg" ContentType="image/jpeg"/>
  <Override PartName="/ppt/media/image9.png" ContentType="image/png"/>
  <Override PartName="/ppt/media/image6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2363-D69E-4847-B543-527AF5CC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25A5-32AB-4304-888F-F17A192B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4D46-B92B-423A-A31A-53E75663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A40C-2D4E-46B0-9D0D-605E2061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239B-B324-48DB-922D-A2C8C92E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0E9D-D302-44F2-93C7-295CB256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BD9A-4E0D-493B-9B88-253F3AC2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9842-0E1A-42D0-B981-C9FDD21A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9B89-1454-452B-83D8-129CCF45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9229-5BAB-488A-BF97-C28AD288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D9FB-775F-42C4-ACC3-5150A1B4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400C-927C-42BC-8320-33F637FA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038C-F6A4-4219-92F4-7042967E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57C0-AD33-46FF-A4AE-CD12E692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56B9-BEA2-473A-8EA9-78993CAE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7D86-84D4-49E3-9111-C5464B97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1A05-86CB-4B20-8F46-E2B87506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6D80F-0643-4274-8AC6-DF70799D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C131A-AAC3-479B-8003-0FFA2F8F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88607-EFB0-43B9-A884-F9621C61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97F6C-F921-4840-9B93-07292E0B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7E902-1FAB-42B4-8549-BCAF15E0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30DA-922B-4F61-ACC6-D5141C61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DD90F-B793-439E-922D-30701B8A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1A0A2-2407-42FD-A9F2-AC029FD7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84C93-1365-49CB-967D-09856EDE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A709C-CDEE-4207-8CD5-5FE32C18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9338E-DA25-4F25-8BE7-BF2B7996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478CB-4241-4680-89E0-BCDD09E5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07CC8-634D-4A61-9AEF-8B744881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231CD-6D65-4478-B924-B09F20B6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E5CDD-746A-4A5E-9C93-89143EF0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3B3E4-5B70-4F43-9B26-FE4AB9BE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7A84-C877-45E2-90B3-81610DCC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5A05D-F46C-4EBC-94BF-D6CDE558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67CCA-8C74-42B3-A55B-D1DB0542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EB477-BAD2-4404-819D-EB12A2B6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6DA1A-AE4B-4DCF-B652-C045C731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39D99-3F5E-478F-9351-E5BCA082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C4DF5-BAB1-4C23-8B51-04B497D9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6A0E2-AD4F-4DAB-8D79-E5D97501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5683B-66F1-4951-95F3-4F463E20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EBA77-3915-44BF-9C85-091845F0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09325-0C64-4485-93C7-A69993C7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2721-3E17-481F-BE9E-72FA2F6B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7DA1E-6AEA-4638-A6F3-9496D24F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6E981-155E-4BBB-8AD1-C752E136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5654B-9160-4CED-907E-1D29F0AB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E0CC6-AEF3-407C-AA6D-5CC94A25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699F1-BE74-4842-9C81-8008CDD7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B681E-A6F8-4FA8-86BF-6D8CB574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812B4-5B26-4FB6-8435-D1E8D605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87DAE-C817-45B0-8B5A-DC3DCDA1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619BF-2B21-42FE-AC78-386BB756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0E8CC-B703-4241-8D64-00B51D9F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B4E1-23C0-4D00-97F0-EE11CBCC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1C0E1-C549-4635-A8DF-2C6D3076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3FA26-6455-4F9F-A755-133B59BF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8965C-F465-400E-9A1E-AB81CBDC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9D6DF-BE44-423D-986B-EB0F35A7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FF49C-12F0-4B4E-BA34-915D4E0C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73B51-7872-42A7-9813-EBFC19B2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4B701-C4E7-405D-AC0E-32BCF743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34A83-6C43-4AB6-BEBF-DED8030B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2C5B7-48FE-4B6F-AF9B-96EFA6D3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B3658-E16B-4298-9D65-27E5F3DD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DD91-0D08-429C-B114-142ACEED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427C0-9B62-403E-87ED-6BCD7A4B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D9811-C869-4C4C-96CA-6C13913E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A5C7E-39C3-4E6C-966F-FAA648B4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C4EE-87FE-4578-AAE0-6D26C427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18E3-256A-46D6-B29F-58772FF8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34CB-63D5-475F-97F9-E03E9E0268B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3C30-3256-4EB9-AC9D-8F8A30CAEEB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3A02-247E-4595-A067-9540CC9A74C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D984-2803-4754-9969-74BC8007B6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3167-A206-481D-9975-BAAE4950112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34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38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567D-66E1-4FA3-A9ED-E35240993DF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0.jpeg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2627280" y="333360"/>
            <a:ext cx="1727280" cy="1488960"/>
            <a:chOff x="2627280" y="333360"/>
            <a:chExt cx="1727280" cy="1488960"/>
          </a:xfrm>
        </p:grpSpPr>
        <p:sp>
          <p:nvSpPr>
            <p:cNvPr id="281" name="Pyr1"/>
            <p:cNvSpPr/>
            <p:nvPr/>
          </p:nvSpPr>
          <p:spPr>
            <a:xfrm>
              <a:off x="3299400" y="333360"/>
              <a:ext cx="387000" cy="32976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Pyr2"/>
            <p:cNvSpPr/>
            <p:nvPr/>
          </p:nvSpPr>
          <p:spPr>
            <a:xfrm>
              <a:off x="3075120" y="663120"/>
              <a:ext cx="833400" cy="3870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Pyr3"/>
            <p:cNvSpPr/>
            <p:nvPr/>
          </p:nvSpPr>
          <p:spPr>
            <a:xfrm>
              <a:off x="2853360" y="1050480"/>
              <a:ext cx="1276920" cy="38664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Pyr4"/>
            <p:cNvSpPr/>
            <p:nvPr/>
          </p:nvSpPr>
          <p:spPr>
            <a:xfrm>
              <a:off x="2627280" y="1435320"/>
              <a:ext cx="1727280" cy="3870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403280" y="4653000"/>
            <a:ext cx="2518920" cy="1828800"/>
            <a:chOff x="1403280" y="4653000"/>
            <a:chExt cx="2518920" cy="1828800"/>
          </a:xfrm>
        </p:grpSpPr>
        <p:sp>
          <p:nvSpPr>
            <p:cNvPr id="286" name=""/>
            <p:cNvSpPr/>
            <p:nvPr/>
          </p:nvSpPr>
          <p:spPr>
            <a:xfrm>
              <a:off x="2009520" y="5026320"/>
              <a:ext cx="1298160" cy="11206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03280" y="6108480"/>
              <a:ext cx="745920" cy="37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9600" y="4653000"/>
              <a:ext cx="746280" cy="37332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176280" y="6108480"/>
              <a:ext cx="745920" cy="37332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PubChord"/>
          <p:cNvSpPr/>
          <p:nvPr/>
        </p:nvSpPr>
        <p:spPr>
          <a:xfrm rot="16983600">
            <a:off x="5219640" y="2819160"/>
            <a:ext cx="1761840" cy="1762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ubPieSlice"/>
          <p:cNvSpPr/>
          <p:nvPr/>
        </p:nvSpPr>
        <p:spPr>
          <a:xfrm>
            <a:off x="4572000" y="4941720"/>
            <a:ext cx="1324080" cy="132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arcTo wR="10800" hR="10800" stAng="-5400000" swAng="-16200000"/>
                <a:lnTo>
                  <a:pt x="1080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ubTriangle"/>
          <p:cNvSpPr/>
          <p:nvPr/>
        </p:nvSpPr>
        <p:spPr>
          <a:xfrm rot="20176800">
            <a:off x="7451280" y="2707920"/>
            <a:ext cx="1397160" cy="139716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516720" y="4611600"/>
            <a:ext cx="2627280" cy="22464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 rot="19687800">
            <a:off x="93240" y="2276280"/>
            <a:ext cx="9302760" cy="21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Клубный час - соревнование "Математическое многоборье"</a:t>
            </a:r>
            <a:endParaRPr b="1" i="1" lang="en-US" sz="4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 rot="20730600">
            <a:off x="324000" y="549360"/>
            <a:ext cx="1582560" cy="15606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5003640" y="88920"/>
            <a:ext cx="1708200" cy="13240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 rot="20496000">
            <a:off x="1545840" y="2349000"/>
            <a:ext cx="15130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-324360" y="188640"/>
            <a:ext cx="6877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Проверьте себ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34800" y="2061720"/>
            <a:ext cx="6479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Comic Sans MS"/>
              </a:rPr>
              <a:t>(4 + 4) : 4 + 4 = 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Comic Sans MS"/>
              </a:rPr>
              <a:t>4 + 4 - 4 : 4 =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Comic Sans MS"/>
              </a:rPr>
              <a:t>(4 + 4) : 4 · 4 = 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Comic Sans MS"/>
              </a:rPr>
              <a:t>4 + 4 + 4 : 4 =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6012000" y="0"/>
            <a:ext cx="31320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3456000" cy="32558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71280" y="44280"/>
            <a:ext cx="8748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Задание № 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Бег  на короткие дистан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4211640" y="1916280"/>
            <a:ext cx="4249800" cy="32731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44360" y="5589720"/>
            <a:ext cx="882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Юрий Борзаковский –    олимпийский чемпи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-36360" y="1268280"/>
            <a:ext cx="9180360" cy="5662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55640" y="-5436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Продолжите ряд чисел – допишите 4 числ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А) 18,9,16,8,….                                                       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 Б) 27,32,37,42….           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 В) 1,2,3,5,8,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i="1" lang="en-US" sz="7200" spc="-1" strike="noStrike">
                <a:solidFill>
                  <a:srgbClr val="ffffff"/>
                </a:solidFill>
                <a:latin typeface="Comic Sans MS"/>
              </a:rPr>
              <a:t>Проверь себя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66ff66"/>
                </a:solidFill>
                <a:latin typeface="Comic Sans MS"/>
              </a:rPr>
              <a:t>А) 18,9,16,8,14,7,12,6,10,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66"/>
                </a:solidFill>
                <a:latin typeface="Comic Sans MS"/>
              </a:rPr>
              <a:t>                                                   </a:t>
            </a:r>
            <a:r>
              <a:rPr b="1" i="1" lang="en-US" sz="4400" spc="-1" strike="noStrike">
                <a:solidFill>
                  <a:srgbClr val="66ff66"/>
                </a:solidFill>
                <a:latin typeface="Comic Sans MS"/>
              </a:rPr>
              <a:t>Б) 27,32,37,42,47,52,57,6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66"/>
                </a:solidFill>
                <a:latin typeface="Comic Sans MS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66ff66"/>
                </a:solidFill>
                <a:latin typeface="Comic Sans MS"/>
              </a:rPr>
              <a:t>В) 1,2,3,5,8,13,21,34,5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539640" y="-316080"/>
            <a:ext cx="41767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Задание №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етание копь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4500720" y="333360"/>
            <a:ext cx="4103640" cy="28065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4500720" y="3357720"/>
            <a:ext cx="4103640" cy="31669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324000" y="1989000"/>
            <a:ext cx="3671640" cy="33847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411120" y="5433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080" y="544500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Мария Абакумова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Олимпийская чемпио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108000" y="426960"/>
            <a:ext cx="9345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Расставьте математические знаки, которые нужно использовать при выполнении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увеличить на несколько един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 уменьшить на несколько един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 увеличить в несколько р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 уменьшить в несколько ра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 на сколько бол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 на сколько мен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 во сколько раз больш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 во сколько раз мен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en-US" sz="4800" spc="-1" strike="noStrike">
                <a:solidFill>
                  <a:srgbClr val="ffffff"/>
                </a:solidFill>
                <a:latin typeface="Comic Sans MS"/>
              </a:rPr>
              <a:t>Проверьте себя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0" y="126648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увеличить на несколько единиц(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 уменьшить на несколько единиц(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 увеличить в несколько раз(·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 уменьшить в несколько раз (: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 на сколько больше(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 на сколько меньше(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 во сколько раз больше (: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 во сколько раз меньше(: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755640" y="-27000"/>
            <a:ext cx="9144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Задание №7.                     Бег с препятствия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3632040" y="3860640"/>
            <a:ext cx="2524320" cy="26640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108000" y="3141720"/>
            <a:ext cx="3190680" cy="34560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3490920" y="1557360"/>
            <a:ext cx="2952720" cy="20955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5"/>
          <a:stretch/>
        </p:blipFill>
        <p:spPr>
          <a:xfrm>
            <a:off x="6588000" y="2998800"/>
            <a:ext cx="24256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2143080" cy="3213000"/>
          </a:xfrm>
          <a:prstGeom prst="rect">
            <a:avLst/>
          </a:prstGeom>
          <a:ln w="0">
            <a:noFill/>
          </a:ln>
        </p:spPr>
      </p:pic>
      <p:pic>
        <p:nvPicPr>
          <p:cNvPr id="375" name="img_0" descr=""/>
          <p:cNvPicPr/>
          <p:nvPr/>
        </p:nvPicPr>
        <p:blipFill>
          <a:blip r:embed="rId3"/>
          <a:stretch/>
        </p:blipFill>
        <p:spPr>
          <a:xfrm>
            <a:off x="1619280" y="3357720"/>
            <a:ext cx="2397240" cy="3240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24000" y="1397160"/>
            <a:ext cx="8286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дилась в Набережных Челнах, Татарстан. Выступает в беге на 1500 и 5000 м, неоднократно становилась чемпионкой России на этих дистанциях, однако коронным видом Гульнары является стипль-чез — бег с препятствиями на 3000 м. В этом виде легкоатлетической программы ей принадлежит рекорд мира, установленный в 2004 году, и побитый ей же на Олимпиаде в Пекине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-503280" y="290520"/>
            <a:ext cx="953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ульнара Самитова-Галк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i="1" lang="en-US" sz="5400" spc="-1" strike="noStrike">
                <a:solidFill>
                  <a:srgbClr val="ffffff"/>
                </a:solidFill>
                <a:latin typeface="Comic Sans MS"/>
              </a:rPr>
              <a:t>Решите задачи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В соревнованиях по бегу Антон, Кирилл и                     Слава заняли первые три места. Какое место занял каждый из ребят, если Кирилл занял не второе и не третье, а Слава не третье мес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На уроке физкультуры нужно было прыгнуть в длину с места на 90 см. В первый раз Даше не хватило до нормы 20 см. Во второй она перепрыгнула норму на 2 см. На сколько см второй результат Даши больше первого?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1114200" y="1889280"/>
            <a:ext cx="7994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группа объединённых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спортивных состязаний,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состоящих из  упражнений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в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одном каком –либо или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нескольких видах спор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(Толковый словарь. Ушаков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484360" y="1243080"/>
            <a:ext cx="5761080" cy="11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Многоборье -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i="1" lang="en-US" sz="5400" spc="-1" strike="noStrike">
                <a:solidFill>
                  <a:srgbClr val="ffffff"/>
                </a:solidFill>
                <a:latin typeface="Comic Sans MS"/>
              </a:rPr>
              <a:t>Проверьте себя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задач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место – Кирил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место – Сла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место – Ант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задач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результат – 70 с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результат – 92 с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вет: больше на 22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5120" y="-100080"/>
            <a:ext cx="862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Задание №8.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     Синхронное плавани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1442880" y="1411200"/>
            <a:ext cx="2408400" cy="28814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4500720" y="1413000"/>
            <a:ext cx="2382840" cy="286056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141120" y="4387680"/>
            <a:ext cx="3062520" cy="23544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5076720" y="4394160"/>
            <a:ext cx="395136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539640" y="304560"/>
            <a:ext cx="79790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На сколько частей разделится лист бумаги четырьмя прямыми линиями, проходящими через одну то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одумайте, как разрезать эту фигуру на 4 равные и одинаковые по форме части, чтобы сумма чисел в каждой из них равнялось 20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2700360" y="2797200"/>
          <a:ext cx="3887280" cy="3681000"/>
        </p:xfrm>
        <a:graphic>
          <a:graphicData uri="http://schemas.openxmlformats.org/drawingml/2006/table">
            <a:tbl>
              <a:tblPr/>
              <a:tblGrid>
                <a:gridCol w="971640"/>
                <a:gridCol w="972360"/>
                <a:gridCol w="971640"/>
                <a:gridCol w="971640"/>
              </a:tblGrid>
              <a:tr h="92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 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 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108000" y="228600"/>
            <a:ext cx="855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Comic Sans MS"/>
              </a:rPr>
              <a:t>Задание № 9 – Фехтование</a:t>
            </a: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643280" y="3170160"/>
            <a:ext cx="4067280" cy="30672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45370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Выпишите числа которые находятся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команда: в          ,           и    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команда: в     и         , но не в      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команда: не в           и не в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03640" y="1700280"/>
            <a:ext cx="863640" cy="433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500720" y="1773360"/>
            <a:ext cx="863280" cy="287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40360" y="1628640"/>
            <a:ext cx="360360" cy="43200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76720" y="2276640"/>
            <a:ext cx="431640" cy="3603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67280" y="2349360"/>
            <a:ext cx="720720" cy="287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588000" y="2349360"/>
            <a:ext cx="863640" cy="28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51280" y="2852640"/>
            <a:ext cx="107964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29440" y="2852640"/>
            <a:ext cx="503280" cy="3603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0036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24000" y="3500280"/>
            <a:ext cx="4537080" cy="1511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56000" y="3573360"/>
            <a:ext cx="1800360" cy="29512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35280" y="4365720"/>
            <a:ext cx="4032360" cy="1657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4500720" y="4437000"/>
            <a:ext cx="50472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348000" y="5013360"/>
            <a:ext cx="33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59640" y="4292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06920" y="4365720"/>
            <a:ext cx="50508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56000" y="4221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92436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211640" y="465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96000" y="3645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32360" y="4005360"/>
            <a:ext cx="57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075280" y="39258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003640" y="4365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003640" y="4653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859280" y="5157720"/>
            <a:ext cx="86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643280" y="6093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         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867280" y="450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084720" y="530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68360" y="5157720"/>
            <a:ext cx="7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40328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32720" y="3645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 rot="19942800">
            <a:off x="-396720" y="2592000"/>
            <a:ext cx="2009520" cy="2131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 rot="1426800">
            <a:off x="7249680" y="2519280"/>
            <a:ext cx="1785960" cy="2133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1403280" y="1292400"/>
            <a:ext cx="5977080" cy="55656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700" spc="-1" strike="noStrike">
                <a:solidFill>
                  <a:srgbClr val="ffffff"/>
                </a:solidFill>
                <a:latin typeface="Comic Sans MS"/>
              </a:rPr>
              <a:t>Задание №1. Разминка.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- </a:t>
            </a: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Наибольшее двузначное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- Какова продолжительность трёх периодов хоккейного матч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- У какого слона нет хобо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- На какой счёт в знаменитой считалке вышел зайчик  погуля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66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66ff66"/>
                </a:solidFill>
                <a:latin typeface="Arial"/>
              </a:rPr>
              <a:t>-Стоит в поле дуб. На дубе три яблока. Ехал добрый молодец и сорвал одно яблоко. Сколько яблок оста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539280" y="43920"/>
            <a:ext cx="75596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Задание №2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Стрельба из лу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0" y="4070520"/>
            <a:ext cx="3203640" cy="27874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5724360" y="4033800"/>
            <a:ext cx="34560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79280" y="318456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00000" y="503568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835280" y="206064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11280" y="366696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59280" y="532296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236000" y="465300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435640" y="575460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877080" y="126828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85080" y="306864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673600" y="280188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755280" y="4098960"/>
            <a:ext cx="360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16000" y="3595680"/>
            <a:ext cx="208764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476360" y="3019320"/>
            <a:ext cx="57456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692360" y="4530600"/>
            <a:ext cx="79200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2484360" y="301896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156360" y="206064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596360" y="2133720"/>
            <a:ext cx="576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6227280" y="3644640"/>
            <a:ext cx="10810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885080" y="4076280"/>
            <a:ext cx="358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6300720" y="537336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16000" y="111240"/>
            <a:ext cx="838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Расставьте любые цифры в кружки так, чтобы стрелка всегда была направлена от кружка с большей цифрой к кружку с меньш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3564000" y="1484280"/>
            <a:ext cx="1193760" cy="28083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3851280" y="3546360"/>
            <a:ext cx="180648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066400" y="228600"/>
            <a:ext cx="6177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Задание № 3. 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   Эстафет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4032000" cy="3384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4643280" y="3284640"/>
            <a:ext cx="4176720" cy="33224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4788000" y="1527120"/>
            <a:ext cx="36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звать чи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атные 5, 6, 7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-459000"/>
            <a:ext cx="741672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Задание №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Прыжки в высот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4608360" cy="37432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5580000" y="1197000"/>
            <a:ext cx="3097440" cy="51116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324000" y="5084640"/>
            <a:ext cx="83534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4105080" cy="38876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250920" y="1557360"/>
            <a:ext cx="4392360" cy="40323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24000" y="13032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Елена Исинбаева – многократная Олимпийская чемпио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3683160" y="3716280"/>
            <a:ext cx="196848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0" y="1384200"/>
            <a:ext cx="9180360" cy="54738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108000" y="549360"/>
            <a:ext cx="925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Расставь знаки и скобки так, чтобы       получились верные равенства.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06160" y="1773000"/>
            <a:ext cx="388620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 4 4 4 =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 4 4 4 =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 4 4 4 =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 4 4 4 = 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2:01:24Z</dcterms:created>
  <dc:creator>user</dc:creator>
  <dc:description/>
  <dc:language>en-US</dc:language>
  <cp:lastModifiedBy>user</cp:lastModifiedBy>
  <dcterms:modified xsi:type="dcterms:W3CDTF">2011-11-26T15:44:38Z</dcterms:modified>
  <cp:revision>18</cp:revision>
  <dc:subject/>
  <dc:title>Слайд 1</dc:title>
</cp:coreProperties>
</file>